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FD8-2CCB-4E31-8F9F-85B0FFD7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C22-FBB4-4892-B688-0EBD9459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8C1-3A0C-4ADD-8816-5017A97D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DB2-3892-4FB5-A95E-5330F096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4D67-9B5A-4FB9-96AC-6DF436AC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5F94-4720-4855-AF20-1E010EAC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CEBD-9FE4-404D-A162-E6C2E57A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DE9B-2E40-496A-BE2E-AF41DBA4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D005-57CA-42CB-9730-D18F8480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AB48-C1CA-4787-95A2-3EF97807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2577-8217-4905-9FAB-97506FCF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908-2CF5-4C40-BBB0-C97E63C2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C087-4EF8-4B89-A4B3-4A7EA4F2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D27D-E5E8-40B0-A066-5767C419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4E12-B376-4975-A2BE-E2C4D13C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9EFE-A2AC-49C8-9FC8-C7FA38E6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994A-61ED-4DE1-B2DB-6C78EAF8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204-C52B-4A8B-9A86-18B6833F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6F7-0F04-4A27-883D-6B562211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995-96EA-4CAB-916A-EBCDE296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DB5-7C5A-41DE-95AA-3840DC95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AC1-863D-4613-9F1A-D7FA7413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4BD-3106-4720-A2AF-5CC4F41B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AA7-9140-48B4-929A-54E0D807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CE17-CBA2-4926-8882-11276FB5C5BF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CE21-051A-48AF-AF93-359365106F4A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alantes, solventes e voláte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Regina Jul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THC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Haxix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 Oriente Médio é a principal fonte de haxixe. Trata-se de secreções resinosas da planta do cânhamo, ricas em THC (varia de apenas traços até 10%), as quais são coletadas, secadas e, em seguida, comprimidas em uma variedade de formatos, tais como bolas, bolos ou placas parecidas com biscoit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Após repetidas extrações de materiais da planta do cânhamo, obtêm-se um líquido escuro e viscoso, cujas amostras atuais contêm em média 20% de THC: o óleo de haxixe. Em termos de seu efeito psicoativo, uma ou duas gotas desse líquido equivale a um cigarro de maconha (“baseado”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</a:t>
            </a: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240" y="17524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9933"/>
                </a:solidFill>
                <a:latin typeface="Arial"/>
                <a:ea typeface="Times New Roman"/>
              </a:rPr>
              <a:t>O THC é um depressor, mas quando a maconha é consumida em grupo costuma trazer eufor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33"/>
                </a:solidFill>
                <a:latin typeface="Arial"/>
                <a:ea typeface="Times New Roman"/>
              </a:rPr>
              <a:t>          </a:t>
            </a:r>
            <a:r>
              <a:rPr b="0" lang="pt-BR" sz="2400" spc="-1" strike="noStrike">
                <a:solidFill>
                  <a:srgbClr val="ff9933"/>
                </a:solidFill>
                <a:latin typeface="Arial"/>
                <a:ea typeface="Times New Roman"/>
              </a:rPr>
              <a:t>A planta contém cerca de sessenta substâncias, chamadas coletivamente de canabinóides. Elas são responsáveis pelos efeitos da planta no corpo.  Em 1991 descobriu-se que as células do cérebro têm uma substância, ainda sem nome, cuja função é reagir quimicamente com os canabinóides; ou seja, é por meio dela que os canabinóides afetam o cérebro e, a partir daí, o resto do organismo. Substâncias desse tipo são denominadas “receptores”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Os efeitos dessa droga variam muito com a quantidade consumida, as partes da planta que entram na mistura, o terreno em que a erva é cultivada, o ambiente em que ela é consumida, a constância do uso e a personalidade do fumante. Os efeitos se fazem sentir dentro de alguns minutos após ser fumada a droga; atingem seu pico dentro de 10 a 30 minutos e podem prolongar-se por duas ou três hor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Para bom entendimento é melhor dividir os efeitos que a maconha produz sobre o homem em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físicos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(ação sobre o próprio corpo ou partes dele) e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psíquicos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( ação sobre a mente). Esses efeitos físicos e psíquicos sofrerão mudanças de acordo com o tempo de uso que se considera, ou seja, os efeitos são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agudos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(quando decorre apenas algumas horas após fumar) e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crônicos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(conseqüências que aparecem após o uso continuado por semanas ou meses ou anos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120" y="609480"/>
            <a:ext cx="815364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ccff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66ccff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ff9933"/>
                </a:solidFill>
                <a:latin typeface="Arial"/>
                <a:ea typeface="Times New Roman"/>
              </a:rPr>
              <a:t>Os efeitos </a:t>
            </a:r>
            <a:r>
              <a:rPr b="1" lang="pt-BR" sz="2400" spc="-1" strike="noStrike">
                <a:solidFill>
                  <a:srgbClr val="ff9933"/>
                </a:solidFill>
                <a:latin typeface="Arial"/>
                <a:ea typeface="Times New Roman"/>
              </a:rPr>
              <a:t>físicos agudos</a:t>
            </a:r>
            <a:r>
              <a:rPr b="0" lang="pt-BR" sz="2400" spc="-1" strike="noStrike">
                <a:solidFill>
                  <a:srgbClr val="ff9933"/>
                </a:solidFill>
                <a:latin typeface="Arial"/>
                <a:ea typeface="Times New Roman"/>
              </a:rPr>
              <a:t> são muito poucos: os olhos ficam meio avermelhados (hiperemia das conjuntivas), a boca fica seca (xerostomia) e o coração dispara (taquicardia). Os efeitos </a:t>
            </a:r>
            <a:r>
              <a:rPr b="1" lang="pt-BR" sz="2400" spc="-1" strike="noStrike">
                <a:solidFill>
                  <a:srgbClr val="ff9933"/>
                </a:solidFill>
                <a:latin typeface="Arial"/>
                <a:ea typeface="Times New Roman"/>
              </a:rPr>
              <a:t>psíquicos agudos</a:t>
            </a:r>
            <a:r>
              <a:rPr b="0" lang="pt-BR" sz="2400" spc="-1" strike="noStrike">
                <a:solidFill>
                  <a:srgbClr val="ff9933"/>
                </a:solidFill>
                <a:latin typeface="Arial"/>
                <a:ea typeface="Times New Roman"/>
              </a:rPr>
              <a:t> dependerão da qualidade da maconha fumada e da sensibilidade de quem fuma. Para uma parte das pessoas são uma sensação de bem-estar acompanhada de calma e relaxamento, sentir-se menos fatigado, vontade de rir (hilariedade). Para outras pessoas os efeitos são mais para o lado desagradável: sentem angústia, ficam aturdidas, temerosas de perder o controle da cabeça, trêmulas, suando. É o que comumente chamam de “má viagem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Os efeitos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físicos crônicos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da maconha já são de maior monta. De fato, com o continuar do uso, vários órgãos do nosso corpo são afetados. A maconha contém alto teor de alcatrão (maior que o cigarro comum), e nele existe uma substância chamada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benzopireno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, conhecido agente cancerígeno. Também traz os mesmos problemas que o cigarro (tabaco): bronquite, asma, faringite, enfizema e câncer (devido ao benzopireno). Outro efeito adverso (indesejável) do uso crônico da maconha refere-se à testosterona. Já existem provas de que a maconha diminui em até 50-60% a quantidade de testosterona, reduzindo drasticamente a quantidade de</a:t>
            </a: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espermatozóides, o que leva o homem à infertilidade. Esse efeito desaparece quando a pessoa deixa de usar a droga. Alguns cientistas afirmam que a maconha reduz a resistência das pessoas, tornando-as facilmente vítimas de doenças infeccios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2824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Há ainda a considerar os efeitos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psíquicos crônicos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. Sabe-se que o uso continuado da maconha interfere com a capacidade de aprendizagem e memorização e pode induzir um estado de amotivação, isto é, não sentir vontade de fazer mais nada, pois tudo fica sem graça e importância (síndrome amotivacional). Além disso, a maconha pode levar algumas pessoas a um estado de dependência. Há provas científicas de que, se a pessoa tem uma doença psíquica qualquer, mas que ainda não está evidente ou a doença já apareceu, mas está controlada com medicamentos adequados, a maconha faz surgir a doença ou piora o quadr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A dependência pode ocorrer por uso repetido durante bastante tempo. Pode haver tolerância, de forma que a pessoa passa a fazer uso diário da droga; no entanto a suspensão abrupta do uso não produz sintomas físicos (dependência apenas psíquica). O dependente se afasta da família, do trabalho e do lazer, para ficar usando a drog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Efeitos no usuário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É comum uma sensação de bem-estar, às vezes com acessos de euforia e de riso incontrolável. Também se sente relaxamento muscular e sonolência. Diminui a capacidade de seguir objetos em moviment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O usuário ganha uma hipersensibilidade, mas perde a noção de tempo e tem falhas de memória. Mais de quatro cigarros podem levar a alucinações, provocar confusão mental, apatia e indolênc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Dilatação das pupilas e boca seca são efeitos comuns, assim como um pouco de taquicardia. Estudos mostram ainda queda da taxa de açúcar no sangue, da quantidade do hormônio testosterona e de espermatozói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5345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       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Queda nas defesas do organismo contra infecçõ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    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Irritação nas vias respiratóri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 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Diminuição da memória e da capacidade de aprendizage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 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A dependência psíquica faz o usuário sentir vontade de usar a droga, acompanhada, às vezes, de irritação, insônia ou perda de apeti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  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O consumo da maconha pode abrir caminho para o uso de drogas mais fortes e perigosas, seja porque, como droga ilícita, leva seu consumidor a entrar em contato com traficantes, ou porque estimula a pessoa a experimentar drogas mais caras e que trazem dependência físic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       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A maconha  não é inofensiva: do mesmo modo que outras drogas, serve como fuga dos problemas que a vida apresenta, prejudicando o desenvolvimento normal da personalidade e o relacionamento com outras pessoas e com o mun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Na produção do haxixe, as secreções resinosas da flor do cânhamo são coletadas, secadas e comprimidas em vários formatos. Existe também o óleo de haxixe que é produzido por processos de repetidas extrações de materiais do cânhamo, para obtenção de um líquido escuro, que possui 20% de THC e é acrescentado ao cigarr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Apesar dos efeitos maléficos citados, o THC tem propriedades que podem ser usadas medicinalmente. Seu uso terapêutico vem sendo discutido em casos de tratamento ou adjuvante no tratamento de doenças como o câncer, a AIDS, esclerose múltipla e glaucoma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stituem-se de hidrocarbonet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smaltes, colas, tintas, tinner, propelentes, gasolina, removedores e vernizes contém estes solvent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Voláteis como o éter etílico, clorofórmio, cloreto de etila (presente no lança perfume), óxido nitroso (gás hilariante), acetona, tolueno, gasolina e outros podem provocar, quando inaladas, vertigem, embriaguez e euforia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120" y="304560"/>
            <a:ext cx="815364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     </a:t>
            </a: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O coquetel de drogas e a quimioterapia, que combatem a proliferação de células cancerosas provocam náuseas e vômitos, muitas vezes intoleráveis. O THC reduz o mal-estar e supera as crises de náuseas e vômitos, permitindo que pacientes menos tolerantes consigam dar prosseguimento ao tratament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A perda de peso pelos aidéticos (devido à diarréias, ação de toxinas etc) é agravada pela falta de apetite. O THC, como estimulante do apetite, principalmente de “doces”, resolve parcialmente esse problema, combatendo a fraquez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       </a:t>
            </a: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A esclerose múltipla ataca o cérebro, ocasionando espasmos musculares involuntários. O THC , devido à propriedade de relaxante muscular, ameniza esse problema, devolvendo o controle dos braços e pern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Devido à maconha causar dilatação dos brônquios e diminuir a sufocação provocada pela asma, tentou-se atribuir a essa droga  poderes medicinais para  doença. Porém, a fumaça é prejudicial aos pulmões, além da maconha conter mais alcatrão que o tabaco, substância de natureza cancerígen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O uso medicinal da maconha ainda está em discussão. Como a droga não possui apenas THC e os agentes químicos que contém são semelhantes aos do cigarro (tabaco), existe controvérsia no seu uso terapêutico. Alguns médicos propõem o uso do THC (e não da maconha), no tratamento dessas enfermidades, utilizando-o na forma de comprimidos ou supositóri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pós estas sensações há desorientação, apatia e, às vezes, delírios, náuseas, diarréia, amnésia e perda da consciênc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ntre os efeitos do solvente o mais predominante é a depressã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dem provocar dependência psíquica; lesões graves ao fígado, rim, medula óssea e cérebro, alterações no ritmo cardíaco e depressão respiratór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dem levar à mor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De acordo com o aparecimento dos efeitos após inalação de solventes, eles foram divididos em quatro fas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- PRIMEIRA FASE: é a chamada fase de excitação e é a desejada, pois a pessoa fica eufórica, aparentemente excitada, já que ocorrem tonturas e perturbações auditivas e visuais. Mas podem também aparecer náuseas, espirros, tosse, muita salivação e as faces podem ficar avermelhad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Arial"/>
              </a:rPr>
              <a:t>SEGUNDA FASE: a depressão do cérebro começa a predominar, com a pessoa ficando em confusão, desorientada, voz meio pastosa, visão embaçada, perda de autocontrole, dor de cabeça, palidez; a pessoa começa a ver e ouvir cois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Arial"/>
              </a:rPr>
              <a:t>-TERCEIRA FASE: a depressão se aprofunda com redução acentuada do alerta, incoordenação ocular (a pessoa não consegue mais fixar os olhos nos objetos), incoordenação motora com marcha vacilante, fala “enrolada”, reflexos deprimidos; já podem ocorrer evidentes processos alucinatóri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Arial"/>
              </a:rPr>
              <a:t>QUARTA FASE: depressão tardia, que pode chegar à inconsciência, queda da pressão, sonhos estranhos, podendo ainda a pessoa apresentar surtos de convulsões. Esta fase ocorre com freqüência entre aqueles cheiradores que usam saco plástico e após um certo tempo já não conseguem afastá-lo do nariz e assim a intoxicação torna-se muito perigosa, podendo mesmo levar ao coma e à mor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rogas perturbadoras do SNC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Maconha e Haxix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Ecstasy (êxtas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Alucinógen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Anticolinérg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00"/>
                </a:solidFill>
                <a:latin typeface="Times New Roman"/>
              </a:rPr>
              <a:t>Canabis sativ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Cannabis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001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00"/>
                </a:solidFill>
                <a:latin typeface="Times New Roman"/>
              </a:rPr>
              <a:t>Maconha e Haxix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Com 140 milhões de usuários e 5000 anos de história, a maconha é a droga ilícita mais popular do planet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É também a mais polêmi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ssas drogas são obtidas  da </a:t>
            </a:r>
            <a:r>
              <a:rPr b="0" i="1" lang="pt-BR" sz="3200" spc="-1" strike="noStrike">
                <a:solidFill>
                  <a:srgbClr val="ffcc66"/>
                </a:solidFill>
                <a:latin typeface="Times New Roman"/>
              </a:rPr>
              <a:t>Canabis sativa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, cujo princípio ativo é o delta-9-tetra-hidrocanabinol (TH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09:16:15Z</dcterms:created>
  <dc:creator>Carlos &amp; Regina</dc:creator>
  <dc:description/>
  <dc:language>en-US</dc:language>
  <cp:lastModifiedBy>LEO</cp:lastModifiedBy>
  <dcterms:modified xsi:type="dcterms:W3CDTF">2000-09-07T12:46:49Z</dcterms:modified>
  <cp:revision>16</cp:revision>
  <dc:subject/>
  <dc:title>Inalantes, solventes e voláteis</dc:title>
</cp:coreProperties>
</file>